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24C-1C2A-4A3F-983B-F574A4E2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3B5-58AE-4A29-818C-6F30FD54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A1B-20B2-4B1D-9CA4-6F2400AD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22F-AB06-4EB1-933E-220634E5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8F9D-E344-4263-9A36-24711F56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DB4-530C-4B71-9D84-790BAD0F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B32-1776-4B65-8D55-C6A1837B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D7F-FB5B-4E75-84F1-1820CCD6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5CF-F657-414B-9EBB-197F9D6E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344-C7C8-4D46-9026-9EA80766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F4C-6EB8-43B9-A28F-6140000E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CD3-7419-4FFF-B9A5-B5713FFA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207B-A76D-49BF-8D28-D31A3A85E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00000" y="4005360"/>
            <a:ext cx="7848720" cy="19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Има Един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Който мисли за мен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-612720" y="4365720"/>
            <a:ext cx="7416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всички гриж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Той е разреш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  <p:sp>
        <p:nvSpPr>
          <p:cNvPr id="48" name=""/>
          <p:cNvSpPr/>
          <p:nvPr/>
        </p:nvSpPr>
        <p:spPr>
          <a:xfrm>
            <a:off x="7093080" y="5877000"/>
            <a:ext cx="100800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24000" y="115920"/>
            <a:ext cx="7272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Аз Съм Негов и зна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имам вечен жив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  <p:sp>
        <p:nvSpPr>
          <p:cNvPr id="52" name=""/>
          <p:cNvSpPr/>
          <p:nvPr/>
        </p:nvSpPr>
        <p:spPr>
          <a:xfrm>
            <a:off x="7093080" y="5950080"/>
            <a:ext cx="115092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1620720" y="4869000"/>
            <a:ext cx="928836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и от нищо ня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Той да ме лиши.\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0" y="4437000"/>
            <a:ext cx="745164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Вярвам във Него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Обичам Го аз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08000" y="4221000"/>
            <a:ext cx="7632720" cy="230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Той във всичко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победи Сатан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5950080"/>
            <a:ext cx="115092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028000" y="6381720"/>
            <a:ext cx="111600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1620720" y="5013360"/>
            <a:ext cx="92170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и от нищо ня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Той да ме лиши.\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15920"/>
            <a:ext cx="7127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Аз Съм Негов и зна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имам вечен жив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71280" y="71280"/>
            <a:ext cx="5724720" cy="393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Нека все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запомни тов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и да каже тез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чудни слов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  <p:sp>
        <p:nvSpPr>
          <p:cNvPr id="69" name=""/>
          <p:cNvSpPr/>
          <p:nvPr/>
        </p:nvSpPr>
        <p:spPr>
          <a:xfrm>
            <a:off x="7451640" y="6381720"/>
            <a:ext cx="12970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885080" y="6308640"/>
            <a:ext cx="1258920" cy="54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080" y="115920"/>
            <a:ext cx="385128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Аз Съ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Него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и зна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имам веч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жив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1620720" y="5084640"/>
            <a:ext cx="892944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и от нищо ня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Той да ме лиши.\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4:35:51Z</dcterms:created>
  <dc:creator>TrifonTrifonow</dc:creator>
  <dc:description/>
  <dc:language>en-US</dc:language>
  <cp:lastModifiedBy>TrifonTrifonow</cp:lastModifiedBy>
  <dcterms:modified xsi:type="dcterms:W3CDTF">2005-12-28T04:36:14Z</dcterms:modified>
  <cp:revision>1</cp:revision>
  <dc:subject/>
  <dc:title>Slide 1</dc:title>
</cp:coreProperties>
</file>